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A9AEC-D306-4EC9-ADAE-96202EDC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9CB94-2CE7-4FFA-94E4-FA988991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58870-F7AF-46FB-84B3-B595EA29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1D6E-426E-4FD5-B8FB-3F50E7DA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24B8-D5FF-4781-BCE6-661C0C14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435F-4FEB-48E7-ABC2-08254A2F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2F1D-FBC9-49F1-9A56-690F676C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574D-0E2D-4D1D-AE4F-5A1163D1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E26C-B554-4BBB-8608-FD46D002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52CD-99B7-4788-B447-B7117DAB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3D95-7ED6-4ADB-A5E9-33F172AC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787B8-8DBF-4FFD-9D88-99441E86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F5AD-0133-4E8A-B317-D5DC1092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8EC7-3086-4355-B70B-9EDADD12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FE41-9595-44D9-960C-37E7CDB5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27E3-6C62-4E21-A192-12AF8776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0697-EB3D-4198-AAE8-6C1170C4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8409E-9A10-4C89-8A1B-C89F96EF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B7E21-917D-4BA6-95E8-9D7C8D1D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03A18-4BDD-4B01-9DAD-A7E43976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A0802-C80B-4C8C-9DFF-A40B9F9D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CE686-CF9A-408C-B990-B541B372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20148-63D5-4F27-A91C-BB08B6DF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812B-1928-4903-A2E4-D96FA6CF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538F-5B06-480F-915F-9987A05272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7FBF-6CA4-42B8-9A79-1ADA802E84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8893080" cy="10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91909"/>
                </a:solidFill>
                <a:latin typeface="隶书"/>
                <a:ea typeface="隶书"/>
              </a:rPr>
              <a:t>电信诈骗防范提示（四）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5" descr="20120730202408484"/>
          <p:cNvPicPr/>
          <p:nvPr/>
        </p:nvPicPr>
        <p:blipFill>
          <a:blip r:embed="rId1"/>
          <a:stretch/>
        </p:blipFill>
        <p:spPr>
          <a:xfrm>
            <a:off x="817560" y="3419640"/>
            <a:ext cx="1590840" cy="1742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20120730202459109"/>
          <p:cNvPicPr/>
          <p:nvPr/>
        </p:nvPicPr>
        <p:blipFill>
          <a:blip r:embed="rId2"/>
          <a:stretch/>
        </p:blipFill>
        <p:spPr>
          <a:xfrm>
            <a:off x="7156440" y="3346560"/>
            <a:ext cx="1585800" cy="1743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1785960" y="3929040"/>
            <a:ext cx="600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91909"/>
                </a:solidFill>
                <a:latin typeface="隶书"/>
                <a:ea typeface="隶书"/>
              </a:rPr>
              <a:t>江苏建筑职业技术学院保卫处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6084720" y="4724280"/>
          <a:ext cx="2971800" cy="20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4724280"/>
                    <a:ext cx="2971800" cy="20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 txBox="1"/>
          <p:nvPr/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典型骗术：以 扫描“二维码”为名进行诈骗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468360" y="2274840"/>
            <a:ext cx="63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随着移动终端的普及，一些便捷的网络支付方式也随即出现。近期网络购物中出现扫描二维码进行支付的网络诈骗。在扫描二维码后，会自动登录一个网站下载手机插件，这个插件其实就是一个“木马程序”，他会窃取用户的支付密码，然后窃取相关支付方式的余额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1332000" y="450864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防范建议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在网络购物时，一定要在正规的网站上购买，选择一些信誉好、评价好、销售量好的卖家，在交易的过程中尽量使用第三方支付平台来支付，保证交易的安全，对自己不熟悉的支付方式的使用一定要慎重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3088080" y="54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常见网络诈骗防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9" descr="20120730203550781"/>
          <p:cNvPicPr/>
          <p:nvPr/>
        </p:nvPicPr>
        <p:blipFill>
          <a:blip r:embed="rId3"/>
          <a:stretch/>
        </p:blipFill>
        <p:spPr>
          <a:xfrm>
            <a:off x="7601040" y="1523880"/>
            <a:ext cx="1896840" cy="3340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20120730203532171"/>
          <p:cNvPicPr/>
          <p:nvPr/>
        </p:nvPicPr>
        <p:blipFill>
          <a:blip r:embed="rId4"/>
          <a:stretch/>
        </p:blipFill>
        <p:spPr>
          <a:xfrm>
            <a:off x="-396720" y="4559400"/>
            <a:ext cx="1963440" cy="33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20120730203532171"/>
          <p:cNvPicPr/>
          <p:nvPr/>
        </p:nvPicPr>
        <p:blipFill>
          <a:blip r:embed="rId1"/>
          <a:stretch/>
        </p:blipFill>
        <p:spPr>
          <a:xfrm>
            <a:off x="-396720" y="4559400"/>
            <a:ext cx="1963440" cy="3389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20120730203550781"/>
          <p:cNvPicPr/>
          <p:nvPr/>
        </p:nvPicPr>
        <p:blipFill>
          <a:blip r:embed="rId2"/>
          <a:stretch/>
        </p:blipFill>
        <p:spPr>
          <a:xfrm>
            <a:off x="7601040" y="1523880"/>
            <a:ext cx="1896840" cy="3340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4"/>
          <p:cNvSpPr/>
          <p:nvPr/>
        </p:nvSpPr>
        <p:spPr>
          <a:xfrm>
            <a:off x="324000" y="1484280"/>
            <a:ext cx="51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典型骗术：以 “网银升级”为名进行诈骗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3088080" y="54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常见网络诈骗防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6" name="Object 7"/>
          <p:cNvGraphicFramePr/>
          <p:nvPr/>
        </p:nvGraphicFramePr>
        <p:xfrm>
          <a:off x="6012000" y="4076640"/>
          <a:ext cx="3047760" cy="27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4076640"/>
                    <a:ext cx="30477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矩形 11"/>
          <p:cNvSpPr/>
          <p:nvPr/>
        </p:nvSpPr>
        <p:spPr>
          <a:xfrm>
            <a:off x="395280" y="2205000"/>
            <a:ext cx="66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近期，又出现了网银升级的网络诈骗。犯罪嫌疑人以群发短信的方式向不特定对象发布网银升级的信息，并留有钓鱼链接，当受害人信以为真、登陆钓鱼链接后，银行卡卡号和密码就会被窃取，最终银行卡上的余额也会被盗取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332000" y="456552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Garamond"/>
              </a:rPr>
              <a:t>防范建议：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一旦遇有网银升级等信息，一定要到银行网点咨询或是拨打银行的官方客服电话咨询，不要轻易相信短信，如果被骗请及时报警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常见网络诈骗防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6275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</a:t>
            </a:r>
            <a:r>
              <a:rPr b="1" lang="zh-CN" sz="1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典型骗术：“代办信用卡”诈骗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网络上有人宣称不需要收入证明，不需要担保，就能够办理大额的信用卡，一旦受害人信以为真后，骗子就以收取保证金、手续费等名目向受害人索要钱财。当受害人付款后，骗子就会消失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20120730203550781"/>
          <p:cNvPicPr/>
          <p:nvPr/>
        </p:nvPicPr>
        <p:blipFill>
          <a:blip r:embed="rId1"/>
          <a:stretch/>
        </p:blipFill>
        <p:spPr>
          <a:xfrm>
            <a:off x="7601040" y="1523880"/>
            <a:ext cx="1896840" cy="3340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20120730203532171"/>
          <p:cNvPicPr/>
          <p:nvPr/>
        </p:nvPicPr>
        <p:blipFill>
          <a:blip r:embed="rId2"/>
          <a:stretch/>
        </p:blipFill>
        <p:spPr>
          <a:xfrm>
            <a:off x="-396720" y="4559400"/>
            <a:ext cx="1963440" cy="3389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1332000" y="4508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防范建议：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办理信用一定要到银行网点办理，这种不需要证明、不需要担保的信用是不存在的。同时也要提醒被骗的人，在办理不需要证明、不需要担保的信用卡时，自己的本意是什么，千万不要因小失大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2" descr="http://a3.att.hudong.com/73/46/01300000432220128157466996775.jpg"/>
          <p:cNvPicPr/>
          <p:nvPr/>
        </p:nvPicPr>
        <p:blipFill>
          <a:blip r:embed="rId3"/>
          <a:stretch/>
        </p:blipFill>
        <p:spPr>
          <a:xfrm>
            <a:off x="5078520" y="4230720"/>
            <a:ext cx="4552920" cy="31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2:17:45Z</dcterms:created>
  <dc:creator>雨林木风</dc:creator>
  <dc:description/>
  <dc:language>en-US</dc:language>
  <cp:lastModifiedBy>微软用户</cp:lastModifiedBy>
  <dcterms:modified xsi:type="dcterms:W3CDTF">2014-06-11T04:02:20Z</dcterms:modified>
  <cp:revision>95</cp:revision>
  <dc:subject/>
  <dc:title>各类电信诈骗防范小常识</dc:title>
</cp:coreProperties>
</file>