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2EA7-A733-46F0-BA7B-F957881C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7DF1-6DBD-4B73-9B01-D1A31849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84637-ED7D-4690-A9E5-C1DFF146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BDBA-5BC8-4A40-BE59-AE9EBBE7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1494-F126-4197-8F6E-64C747C5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7EC8-2E90-4FBF-9284-03004E76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D4D5-8A6C-4D1D-BFAE-8AB3E34A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D154-5E0F-4C24-9E0F-24468F43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ADC0-3AC4-478C-9854-2FC50726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5014-1009-4EC6-AF19-CF1454F7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8D4A-C9DC-4F4E-B8A6-5901592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BB697-F1BD-4816-84B9-F4441E79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895F-3E50-4CEB-95E4-ECA6F680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1F41-17B1-4D87-AF70-41A4450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F9EB-629A-4125-9829-FC231971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BB16-9B26-4121-AE5F-C46A65F8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A5B1-677E-4340-9F8C-5B10F262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634F-B4F8-46FC-99BF-4988DE73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3B7A-D56B-4C66-B871-01E1E372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0D4F-996F-4A58-B41A-E748F67B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17F4-7335-4521-8A92-9EF05C27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0D8C-529F-4B68-9783-C44F389D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55B5-E271-419A-B6F8-49E03D81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5FCA-582E-483A-9B37-F3DAEA65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1BBB-D8D8-49A9-BA61-387ECC8AE6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CD96-5241-4FF1-8571-254F9B401D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893080" cy="10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91909"/>
                </a:solidFill>
                <a:latin typeface="隶书"/>
                <a:ea typeface="隶书"/>
              </a:rPr>
              <a:t>电信诈骗防范提示（三）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20120730202408484"/>
          <p:cNvPicPr/>
          <p:nvPr/>
        </p:nvPicPr>
        <p:blipFill>
          <a:blip r:embed="rId1"/>
          <a:stretch/>
        </p:blipFill>
        <p:spPr>
          <a:xfrm>
            <a:off x="971640" y="3573360"/>
            <a:ext cx="128268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20120730202459109"/>
          <p:cNvPicPr/>
          <p:nvPr/>
        </p:nvPicPr>
        <p:blipFill>
          <a:blip r:embed="rId2"/>
          <a:stretch/>
        </p:blipFill>
        <p:spPr>
          <a:xfrm>
            <a:off x="7308720" y="3500280"/>
            <a:ext cx="1282680" cy="1440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785960" y="3929040"/>
            <a:ext cx="600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91909"/>
                </a:solidFill>
                <a:latin typeface="隶书"/>
                <a:ea typeface="隶书"/>
              </a:rPr>
              <a:t>江苏建筑职业技术学院保卫处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20120730203532171"/>
          <p:cNvPicPr/>
          <p:nvPr/>
        </p:nvPicPr>
        <p:blipFill>
          <a:blip r:embed="rId1"/>
          <a:stretch/>
        </p:blipFill>
        <p:spPr>
          <a:xfrm>
            <a:off x="-1440" y="4716360"/>
            <a:ext cx="118080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20120730203550781"/>
          <p:cNvPicPr/>
          <p:nvPr/>
        </p:nvPicPr>
        <p:blipFill>
          <a:blip r:embed="rId2"/>
          <a:stretch/>
        </p:blipFill>
        <p:spPr>
          <a:xfrm>
            <a:off x="7962840" y="1643040"/>
            <a:ext cx="1181160" cy="2133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324000" y="1484280"/>
            <a:ext cx="51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典型骗术：以 “刷信誉”为名进行诈骗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3088080" y="54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常见网络诈骗防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6012000" y="4076640"/>
          <a:ext cx="304776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4076640"/>
                    <a:ext cx="30477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矩形 11"/>
          <p:cNvSpPr/>
          <p:nvPr/>
        </p:nvSpPr>
        <p:spPr>
          <a:xfrm>
            <a:off x="395280" y="2060640"/>
            <a:ext cx="66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一、何为 “刷信誉”？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       “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刷钻”、“刷信誉”、“刷信用”、“互拍”、 “群拍”或者“炒作信用度”，是指在淘宝、拍拍等购物网站中，买、卖双方以抬高信用为目的，或双方在无实际成交的情况下做出“满意”、“好评”评价的行为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1332000" y="4565520"/>
            <a:ext cx="47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二、这种行为是否违规？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信用炒作是一种不道德的行为，对于其他卖家很不公平，这种以虚假的方式来提高本店铺信誉的行为本身的合法性有待研究，而作为网络交易平台本身的网站来讲，一旦查到这种行为后都会做出严厉处罚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6084720" y="4724280"/>
          <a:ext cx="2971800" cy="20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4724280"/>
                    <a:ext cx="297180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8" descr="20120730203532171"/>
          <p:cNvPicPr/>
          <p:nvPr/>
        </p:nvPicPr>
        <p:blipFill>
          <a:blip r:embed="rId3"/>
          <a:stretch/>
        </p:blipFill>
        <p:spPr>
          <a:xfrm>
            <a:off x="0" y="4724280"/>
            <a:ext cx="1181160" cy="2133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20120730203550781"/>
          <p:cNvPicPr/>
          <p:nvPr/>
        </p:nvPicPr>
        <p:blipFill>
          <a:blip r:embed="rId4"/>
          <a:stretch/>
        </p:blipFill>
        <p:spPr>
          <a:xfrm>
            <a:off x="7962840" y="1643040"/>
            <a:ext cx="1181160" cy="2133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三、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何为以 “刷信誉”为名进行诈骗？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468360" y="2274840"/>
            <a:ext cx="63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犯罪分子利用网络商户在交易平台中信誉等级提升的需求催生的“代刷信誉”为诈骗手段，以给予提成为诱饵，诱骗受害人为其“代刷信誉”，并将受害人“代刷信誉”时支付的相应款项据为己有或是购买虚拟产品后直接发给嫌疑人，并通过卡单、提高提成的手段或者威胁受害人如不继续为其“代刷信誉”，之前“代刷信誉”已支付的现金也不退还，骗取受害人钱财的行为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1332000" y="4508640"/>
            <a:ext cx="48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四、此类案件的特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此类案件中，骗子利用ＱＱ、贴吧等发布虚假诈骗信息，不仅传播速度快、范围广，且具有虚拟性和不确定性。加之所谓“兼职刷信誉”对受害人学历及工作经验无任何要求，报酬丰厚，诱惑力较大，上当者大多为社会经验不足，防范意识差的年轻人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3088080" y="54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常见网络诈骗防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6516720" y="4292640"/>
          <a:ext cx="297180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292640"/>
                    <a:ext cx="297180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8" descr="20120730203532171"/>
          <p:cNvPicPr/>
          <p:nvPr/>
        </p:nvPicPr>
        <p:blipFill>
          <a:blip r:embed="rId3"/>
          <a:stretch/>
        </p:blipFill>
        <p:spPr>
          <a:xfrm>
            <a:off x="0" y="4724280"/>
            <a:ext cx="1181160" cy="2133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20120730203550781"/>
          <p:cNvPicPr/>
          <p:nvPr/>
        </p:nvPicPr>
        <p:blipFill>
          <a:blip r:embed="rId4"/>
          <a:stretch/>
        </p:blipFill>
        <p:spPr>
          <a:xfrm>
            <a:off x="7962840" y="1643040"/>
            <a:ext cx="1181160" cy="213372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8"/>
          <p:cNvSpPr/>
          <p:nvPr/>
        </p:nvSpPr>
        <p:spPr>
          <a:xfrm>
            <a:off x="1042920" y="4653000"/>
            <a:ext cx="585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3088080" y="54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常见网络诈骗防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矩形 10"/>
          <p:cNvSpPr/>
          <p:nvPr/>
        </p:nvSpPr>
        <p:spPr>
          <a:xfrm>
            <a:off x="468360" y="2421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此类案件利用网络的虚拟性及不确定性，侵害对象多为经常上网的不特定人群，无固定职业年轻人及学生居多。希望广大网民提高识别能力，自觉抵制各种诱惑。坚信“天上不会掉馅饼”，尤其是对那些“高额回报”“快速致富”的项目或兼职进行冷静分析，当遇到此类信息时，可以先咨询家人或朋友，切勿轻易相信，以防上当。万一被骗，要及时报警，并保存好相关证据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1148760" y="1557360"/>
            <a:ext cx="28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五、防范 “刷信誉”为名进行诈骗建议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0" descr="http://money.xsnet.cn/images/cjnews/2013/3/15/2013315AA363D2BB0204B4B99E301DE1DD80A55.jpg"/>
          <p:cNvPicPr/>
          <p:nvPr/>
        </p:nvPicPr>
        <p:blipFill>
          <a:blip r:embed="rId5"/>
          <a:stretch/>
        </p:blipFill>
        <p:spPr>
          <a:xfrm>
            <a:off x="2556000" y="4921200"/>
            <a:ext cx="2879640" cy="193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2:17:45Z</dcterms:created>
  <dc:creator>雨林木风</dc:creator>
  <dc:description/>
  <dc:language>en-US</dc:language>
  <cp:lastModifiedBy>微软用户</cp:lastModifiedBy>
  <dcterms:modified xsi:type="dcterms:W3CDTF">2014-06-11T04:00:19Z</dcterms:modified>
  <cp:revision>88</cp:revision>
  <dc:subject/>
  <dc:title>各类电信诈骗防范小常识</dc:title>
</cp:coreProperties>
</file>